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E64-815D-47CD-90E6-437C7F3C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323-4250-47CC-BC2D-A36F233D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CE6-27B1-4616-AC0D-05BEDF19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681-6854-495A-9278-725FE2F5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005D-C49A-4F78-B300-72AB5BF3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934D-AE5C-4BD5-B0F4-C5163613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12F9-A200-465A-A681-DF29810F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C0DB-1FC9-48C1-9B0F-750DFE84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9608-305E-4ECC-83FD-D4D24D5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E48A-DA31-4717-A0FF-1695AD41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2FB0-07DA-47C5-B236-C887A5D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388-BE4F-4905-93FF-D05ADA13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76CE-4483-4260-972A-EB74405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9EF8-EBAB-4D43-A0C4-97EBE879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AF1A-7A93-4D9D-80AD-5E7BC55A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4DD-33E6-47C8-82F8-27D4E109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17468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761640"/>
            <a:ext cx="35330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4DD5-A508-4958-B5A2-79E76329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9DB-4180-476E-AB4A-8566BCAA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460-310C-4A2D-B485-20F12B04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F60-455A-47B9-99A6-DD628EBA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190440"/>
            <a:ext cx="10972440" cy="269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B25-D2F6-4527-8F41-25310E5B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7F1-5CCD-4B7B-89D0-50F8B681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76164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A9C-811E-496E-BA22-866FD39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174680"/>
            <a:ext cx="53542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61640"/>
            <a:ext cx="109724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5F8-FFEF-42F2-A010-4490B14D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4240" y="3718080"/>
            <a:ext cx="109429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4240" y="3718080"/>
            <a:ext cx="10942920" cy="1082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6400" y="4940280"/>
            <a:ext cx="10949040" cy="980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90440"/>
            <a:ext cx="10972440" cy="58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174680"/>
            <a:ext cx="10972440" cy="4952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Green Color">
  <a:themeElements>
    <a:clrScheme name="Green Color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009900"/>
      </a:accent1>
      <a:accent2>
        <a:srgbClr val="99cc00"/>
      </a:accent2>
      <a:accent3>
        <a:srgbClr val="ffffff"/>
      </a:accent3>
      <a:accent4>
        <a:srgbClr val="000000"/>
      </a:accent4>
      <a:accent5>
        <a:srgbClr val="aacaaa"/>
      </a:accent5>
      <a:accent6>
        <a:srgbClr val="8ab900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reen Color">
  <a:themeElements>
    <a:clrScheme name="Green Color 13">
      <a:dk1>
        <a:srgbClr val="000000"/>
      </a:dk1>
      <a:lt1>
        <a:srgbClr val="ffffff"/>
      </a:lt1>
      <a:dk2>
        <a:srgbClr val="000000"/>
      </a:dk2>
      <a:lt2>
        <a:srgbClr val="969696"/>
      </a:lt2>
      <a:accent1>
        <a:srgbClr val="009900"/>
      </a:accent1>
      <a:accent2>
        <a:srgbClr val="99cc00"/>
      </a:accent2>
      <a:accent3>
        <a:srgbClr val="ffffff"/>
      </a:accent3>
      <a:accent4>
        <a:srgbClr val="000000"/>
      </a:accent4>
      <a:accent5>
        <a:srgbClr val="aacaaa"/>
      </a:accent5>
      <a:accent6>
        <a:srgbClr val="8ab900"/>
      </a:accent6>
      <a:hlink>
        <a:srgbClr val="cc3300"/>
      </a:hlink>
      <a:folHlink>
        <a:srgbClr val="9966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0T12:00:44Z</dcterms:created>
  <dc:creator/>
  <dc:description/>
  <dc:language>en-US</dc:language>
  <cp:lastModifiedBy>Admin1914</cp:lastModifiedBy>
  <dcterms:modified xsi:type="dcterms:W3CDTF">2024-08-20T12:00:44Z</dcterms:modified>
  <cp:revision>1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CF01DDB54D24DF0BB6F13187199ECB2_12</vt:lpwstr>
  </property>
  <property fmtid="{D5CDD505-2E9C-101B-9397-08002B2CF9AE}" pid="3" name="KSOProductBuildVer">
    <vt:lpwstr>1033-12.2.0.13472</vt:lpwstr>
  </property>
  <property fmtid="{D5CDD505-2E9C-101B-9397-08002B2CF9AE}" pid="4" name="PresentationFormat">
    <vt:lpwstr>Widescreen</vt:lpwstr>
  </property>
  <property fmtid="{D5CDD505-2E9C-101B-9397-08002B2CF9AE}" pid="5" name="Slides">
    <vt:r8>2</vt:r8>
  </property>
</Properties>
</file>